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5017-BB83-4A15-B611-8EC2DB41F0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конец поднялись 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прогулке с мам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кой я был маленький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вые объят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накомство с моей сестрен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рвое кормл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 вот и я! Я немного подр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игрушка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ый дом Ло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кусная кост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C50-9697-40DA-94D8-918721F8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9AD0-1600-461E-8DE6-FBF40797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169-2E69-46E1-83A4-5EFE9AB8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5D62-F694-4C0D-9ABD-7F92841E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66711-21BB-4E2C-AB7A-48A76D3C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F584B-BEB8-403B-933F-69ADED8B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DDE12-DE15-4909-96F8-8D8F4D5E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D8B67-B2FA-40CB-AF94-2421EEDB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EFCB5-636F-4AFA-BE67-5CC1DFB5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41250-70BF-4AC2-85E8-A603FDB9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644C7-603B-4DD2-9607-0D3323DE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835B-E515-407B-B974-D1DCE8B1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E22C6-E2E9-43E7-9BDE-FB9866D4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72E81-2056-47A7-B4A1-60D1D916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64418-798E-4B42-8334-C53AB684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862F3-0094-44FA-82E1-D2E0CD1C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4AA88-99EF-4312-97A0-A91D0255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E54-72B6-4640-A785-B112C3FE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7BAB-1086-4920-BCB1-155E81AB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E04-AA14-4CA5-A191-A25F7B81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EE16-ABA5-4F9B-995F-9D9701F2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5E2-B62A-44D1-95FB-6505BBEE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0E52-414D-479E-B43A-D90B54E6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4CD-2F22-4024-A9D9-7B16BC24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DB1C-1CE7-4536-B6A9-AB864C8674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8274-4D3B-495D-A379-1A1EF8D251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97360" cy="3597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539640" y="4365720"/>
            <a:ext cx="806472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Мой лучший друг</a:t>
            </a:r>
            <a:endParaRPr b="1" lang="en-US" sz="60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91" name=""/>
          <p:cNvSpPr/>
          <p:nvPr/>
        </p:nvSpPr>
        <p:spPr>
          <a:xfrm>
            <a:off x="5129640" y="563400"/>
            <a:ext cx="32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аботу выполн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Ученица 3 «Г» кл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ОУ СОШ №32 г.Нальч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наева Рен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уководитель проек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тмурзаева Л. 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68360" y="4254480"/>
            <a:ext cx="8351640" cy="26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Наконец, поднялись ушки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rcRect l="0" t="4218" r="0" b="10588"/>
          <a:stretch/>
        </p:blipFill>
        <p:spPr>
          <a:xfrm>
            <a:off x="1692360" y="0"/>
            <a:ext cx="59245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124000" y="5661000"/>
            <a:ext cx="494352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На прогулке с мамой.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92360" y="0"/>
            <a:ext cx="57452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24000" y="4221000"/>
            <a:ext cx="835164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В нашем доме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появился новый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жилец!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627280" y="0"/>
            <a:ext cx="4030560" cy="5373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71640" y="5589720"/>
            <a:ext cx="67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Monotype Corsiva"/>
              </a:rPr>
              <a:t>Первые объяти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32200" cy="6308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59280" y="682560"/>
            <a:ext cx="428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Monotype Corsiva"/>
              </a:rPr>
              <a:t>Знакомство с моей сестрёнкой Фатимо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19120" y="5938920"/>
            <a:ext cx="466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f0f0f"/>
                </a:solidFill>
                <a:latin typeface="Monotype Corsiva"/>
              </a:rPr>
              <a:t>Первое кормле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02896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31840" y="5603760"/>
            <a:ext cx="79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onotype Corsiva"/>
              </a:rPr>
              <a:t>А вот и я! Я немного подрос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723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1042920" y="4869000"/>
            <a:ext cx="698508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Новая игрушка!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971640" y="5218200"/>
            <a:ext cx="6553080" cy="16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Новый дом Лорда.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11280" y="4862520"/>
            <a:ext cx="792144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Ах, какая вкусная косточка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30T07:40:08Z</dcterms:created>
  <dc:creator>Зам по НМР</dc:creator>
  <dc:description/>
  <dc:language>en-US</dc:language>
  <cp:lastModifiedBy>Зам по НМР</cp:lastModifiedBy>
  <dcterms:modified xsi:type="dcterms:W3CDTF">2010-11-25T09:48:34Z</dcterms:modified>
  <cp:revision>4</cp:revision>
  <dc:subject/>
  <dc:title>Слайд 1</dc:title>
</cp:coreProperties>
</file>